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4B4-633F-4BD7-87AD-8406EA3B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DB3-EC35-40F3-8563-D767A7AF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180-CE8B-40E7-9BD6-60B2BC41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EDD-25EE-415E-8722-715327B5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5BA-6E0E-44F0-84A0-51AB5F2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FB7-0716-479E-A367-C5BC1B0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A13-D891-4565-8682-8C298B5A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203-C642-48FC-B69C-D708804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F24-F406-4804-AA71-763CFFC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AFE-B7FB-4B78-889F-37C9004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917-A420-4467-82AB-B58D7EE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B26-6266-4B1B-B4BE-30D0F535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908C-3476-4CA0-99A3-0CC4CCFA6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2214720"/>
            <a:ext cx="885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Роль педаго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в  реализации  национальн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образовательной  инициатив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«Наша новая шко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Sveta\Рабочий стол\Год учителя 2010\Copy of эмблема Года учителя копия.gif"/>
          <p:cNvPicPr/>
          <p:nvPr/>
        </p:nvPicPr>
        <p:blipFill>
          <a:blip r:embed="rId1"/>
          <a:stretch/>
        </p:blipFill>
        <p:spPr>
          <a:xfrm>
            <a:off x="6858000" y="142920"/>
            <a:ext cx="2052720" cy="2282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642960" y="6000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З.В.Лялюхина, 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начальник Управления образования администрации г.о.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14200" y="214200"/>
            <a:ext cx="8501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Поздравляю  всех педагог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с началом учебного г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Georgia"/>
              </a:rPr>
              <a:t>Желаю здоровья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Georgia"/>
              </a:rPr>
              <a:t>успеха во всех начинания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Georgia"/>
              </a:rPr>
              <a:t>Удачи в конкурсах, педагогических находо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Georgia"/>
              </a:rPr>
              <a:t>и много-много поб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Sveta\Рабочий стол\Год учителя 2010\Копия Кленовые листья.gif"/>
          <p:cNvPicPr/>
          <p:nvPr/>
        </p:nvPicPr>
        <p:blipFill>
          <a:blip r:embed="rId1"/>
          <a:stretch/>
        </p:blipFill>
        <p:spPr>
          <a:xfrm>
            <a:off x="1714680" y="3786120"/>
            <a:ext cx="55688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57160" y="57168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Итоговая аттестация 9-х, 11-х клас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85840" y="1714680"/>
          <a:ext cx="8501040" cy="3662280"/>
        </p:xfrm>
        <a:graphic>
          <a:graphicData uri="http://schemas.openxmlformats.org/drawingml/2006/table">
            <a:tbl>
              <a:tblPr/>
              <a:tblGrid>
                <a:gridCol w="2189160"/>
                <a:gridCol w="1261800"/>
                <a:gridCol w="1262160"/>
                <a:gridCol w="1262160"/>
                <a:gridCol w="1263600"/>
                <a:gridCol w="1262160"/>
              </a:tblGrid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ту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пуск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учили аттес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лучили аттестаты с отлич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357200" y="5716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Максимальные баллы по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5840" y="1857240"/>
          <a:ext cx="8572320" cy="3297240"/>
        </p:xfrm>
        <a:graphic>
          <a:graphicData uri="http://schemas.openxmlformats.org/drawingml/2006/table">
            <a:tbl>
              <a:tblPr/>
              <a:tblGrid>
                <a:gridCol w="1714320"/>
                <a:gridCol w="2195640"/>
                <a:gridCol w="1654200"/>
                <a:gridCol w="1293840"/>
                <a:gridCol w="1714320"/>
              </a:tblGrid>
              <a:tr h="11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.И. уча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Шк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.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на Анаст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Н.Остро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икова Да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Н.Остров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чаг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ль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ьв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785880" y="142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Итоги  ЕГЭ  2009-2010 учеб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2920" y="857160"/>
          <a:ext cx="8786880" cy="5846760"/>
        </p:xfrm>
        <a:graphic>
          <a:graphicData uri="http://schemas.openxmlformats.org/drawingml/2006/table">
            <a:tbl>
              <a:tblPr/>
              <a:tblGrid>
                <a:gridCol w="1714320"/>
                <a:gridCol w="1009800"/>
                <a:gridCol w="1011240"/>
                <a:gridCol w="1009800"/>
                <a:gridCol w="1011240"/>
                <a:gridCol w="1009440"/>
                <a:gridCol w="1011240"/>
                <a:gridCol w="100980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е преодолели минимального пор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инимальный по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0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неш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ванов-ская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неш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ванов-ская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инеш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ванов-ская об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ц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14200" y="300024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Georgia"/>
              </a:rPr>
              <a:t>Победители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Georgia"/>
              </a:rPr>
              <a:t>III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Georgia"/>
              </a:rPr>
              <a:t> этапа олимпи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2920" y="3429000"/>
          <a:ext cx="8858160" cy="3286080"/>
        </p:xfrm>
        <a:graphic>
          <a:graphicData uri="http://schemas.openxmlformats.org/drawingml/2006/table">
            <a:tbl>
              <a:tblPr/>
              <a:tblGrid>
                <a:gridCol w="1771560"/>
                <a:gridCol w="1992240"/>
                <a:gridCol w="1625760"/>
                <a:gridCol w="1697040"/>
                <a:gridCol w="1771560"/>
              </a:tblGrid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.И.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.И.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Зудина Алё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У СОШ им.Д.А.Фур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аркова Наталья Евгень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удрящов Кири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ОУ СОШ №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9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аватина Светлана Андре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ндреева Екате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имназия и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А.Н.Остров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алободова Лариса Анисим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оугольник 4"/>
          <p:cNvSpPr/>
          <p:nvPr/>
        </p:nvSpPr>
        <p:spPr>
          <a:xfrm>
            <a:off x="320760" y="142920"/>
            <a:ext cx="8382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Региональный этап Всероссийской олимпиады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риняли участие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0 ч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Победителей и призёров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 ч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Эффективность участия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,4% /2010г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,6% /2009г.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,1% /2008г.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85840" y="428760"/>
            <a:ext cx="864396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Аттес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Аттестовано в 2009/10 уч. г. –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11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Высшая категория –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16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Первая категория   -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79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Вторая категория    -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116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Имеют квалификационну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категорию                   -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90,1% 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от общего числа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42920" y="1429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Региональные конк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педагогического масте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42920" y="1071720"/>
            <a:ext cx="9001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Урок физкультуры </a:t>
            </a:r>
            <a:r>
              <a:rPr b="1" lang="en-US" sz="1600" spc="-1" strike="noStrike">
                <a:solidFill>
                  <a:srgbClr val="c00000"/>
                </a:solidFill>
                <a:latin typeface="Georgia"/>
              </a:rPr>
              <a:t>XXI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век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                                     </a:t>
            </a:r>
            <a:r>
              <a:rPr b="1" lang="ru-RU" sz="1600" spc="-1" strike="noStrike">
                <a:solidFill>
                  <a:srgbClr val="000099"/>
                </a:solidFill>
                <a:latin typeface="Georgia"/>
              </a:rPr>
              <a:t>-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Карманов Валентин Павлович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МДОУ ЦРР д/с №1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Зенькевич Александр Владимирович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ЦВР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Груздев Дмитрий Алексеевич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Гимназия им. А.Н.Островского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За нравственный подвиг учител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Georgia"/>
              </a:rPr>
              <a:t>I 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место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номинации «Лучшая программа по духовно-нравственному воспитанию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Виноградова Ирина Николаевна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/МОУ СОШ №17/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Мой любимый урок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Победител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Смирнова Маргарита Витальевна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Гимназия  им.А.Н.Островского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Батурина Алёна Фёдоров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МОУ СОШ №2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«Педагог года – 2010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Победитель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в номинации «Педагог дополнительного образования»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Блинова Наталья Александровна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ЦРТДиЮ/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Дипломант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 номинации Педагог общего образова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eorgia"/>
              </a:rPr>
              <a:t>                                   –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Груздева Ольга Владимиров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Гимназия  им.А.Н.Островского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Дипломант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 номинации «Воспитатель года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</a:t>
            </a:r>
            <a:r>
              <a:rPr b="1" lang="ru-RU" sz="1600" spc="-1" strike="noStrike">
                <a:solidFill>
                  <a:srgbClr val="000099"/>
                </a:solidFill>
                <a:latin typeface="Georgia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Мишагина Татьяна Евгеньев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/МДОУ д/с №50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Georgia"/>
              </a:rPr>
              <a:t>«Методическая служба новой школы» . 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Georgia"/>
              </a:rPr>
              <a:t>II</a:t>
            </a:r>
            <a:r>
              <a:rPr b="1" i="1" lang="ru-RU" sz="1600" spc="-1" strike="noStrike" u="sng">
                <a:solidFill>
                  <a:srgbClr val="000099"/>
                </a:solidFill>
                <a:uFillTx/>
                <a:latin typeface="Georgia"/>
              </a:rPr>
              <a:t> место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i="1" lang="ru-RU" sz="1600" spc="-1" strike="noStrike">
                <a:solidFill>
                  <a:srgbClr val="000099"/>
                </a:solidFill>
                <a:latin typeface="Georgia"/>
              </a:rPr>
              <a:t>ГИМЦ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142920" y="285840"/>
            <a:ext cx="885816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Создание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«Безопасных условий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проведения  учебно-воспитательного процес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в 9 школах действуют системы видеонаблюд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в двух школах заменены АП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восстановлено ограждение в СОШ им.Д.А.Фурмано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заменена электропроводка в СОШ №10 и ООШ №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оборудовано аварийное освещение путей эвакуации в 6 школах, 20  детских садах, в 1 центре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Georgia"/>
              </a:rPr>
              <a:t>Освоено материальных средст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                                               –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1, 2 млн.руб.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/региональный бюджет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1, 755 млн. руб. </a:t>
            </a: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/городской бюджет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14200" y="214200"/>
          <a:ext cx="8715600" cy="6489720"/>
        </p:xfrm>
        <a:graphic>
          <a:graphicData uri="http://schemas.openxmlformats.org/drawingml/2006/table">
            <a:tbl>
              <a:tblPr/>
              <a:tblGrid>
                <a:gridCol w="1214640"/>
                <a:gridCol w="938160"/>
                <a:gridCol w="936720"/>
                <a:gridCol w="938160"/>
                <a:gridCol w="938160"/>
                <a:gridCol w="936720"/>
                <a:gridCol w="938160"/>
                <a:gridCol w="936720"/>
                <a:gridCol w="93816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наполняемость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.во уч-ся на 1 работ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-во уч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уч-ся на 1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 ФОТ на учителей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Фур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Ш №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 №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Ш №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И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Ш №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2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4:43:56Z</dcterms:created>
  <dc:creator>Sveta</dc:creator>
  <dc:description/>
  <dc:language>en-US</dc:language>
  <cp:lastModifiedBy>Elena</cp:lastModifiedBy>
  <dcterms:modified xsi:type="dcterms:W3CDTF">2010-09-03T10:43:18Z</dcterms:modified>
  <cp:revision>43</cp:revision>
  <dc:subject/>
  <dc:title>Слайд 1</dc:title>
</cp:coreProperties>
</file>